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DD9-A9FD-4B66-976F-7D027022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C81-ACB7-4A48-94AA-1D0E5915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DA295-E805-4349-8E9D-5D610ED9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27102-35F4-4C79-951E-52D24F66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55F41-67F7-4C84-8C29-037FB29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8A0C1-54F9-4F77-BA4B-3B7F031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DBA1C-2AA3-44F0-813E-E78CAD45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E151A-5FA9-43D3-86DB-C617D7B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04297-A0AC-45D9-93CC-A22F2F5D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F8CD4-2412-4971-8424-6FF45575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9E89D-FA31-44CE-BD47-C2C81932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56EC2-E883-4902-81E9-52F8AB7E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4F2-A9B0-4E09-BF52-A7B041DB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239CA-BB42-4DA4-BA72-BF4143E6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937A0-670E-48AA-A256-64D8F15C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EB11C-77C1-4A9F-88A9-3F32C4BB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637F5-2B2A-4BCF-A438-92A9C232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7998D-1970-4A4A-B243-EC038A75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2FA6D-2AD5-432E-AA5D-7D5D1628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2EB56-5F0F-4D09-8172-C04A573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E1DA9-2E2B-492F-A7A3-57CD6734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9E54A-F101-4683-B7B9-71B5D3C4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391F8-73FB-4B05-8C36-5319C102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D8F-ADDC-4FFE-8992-D86CC804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1698A-B3B4-40D6-A389-C1481250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2E25F-FBEC-44B0-AF6A-D5C0B9CD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55871-036F-419E-A814-B730C4FE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BE089-BC66-443F-9F18-2996F64A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0CEBA-1835-48CE-A214-F7546ADA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8E4F4-22C4-4F0C-9479-9E9D0731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234FA-3482-440C-BB11-7029E7BE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93870-BAA8-4555-8CC5-F519487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F523A-C238-473A-A57F-4DAD7797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B65C7-939C-4501-AB74-B24F78F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AC60-0934-4076-9E0D-CC1D9FDC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19F67-674B-4B0D-ABD0-0D471F6B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5062A-27D4-4780-9557-FBA909A0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D65E7-C7E9-44F0-8B6A-46BD11DD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B3029-0C5D-43CC-8CB5-0D9CEDB8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BF8A4-063D-4D79-BF83-AA1825E0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A4A9A-7052-4533-B377-249D3EFC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608BC-EB23-478D-B2B0-842A8AB1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4FB72-3EFA-4B8A-A732-F877B0B4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C3FFA-4AB8-4C1F-B633-A3832311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9E736-B5C2-46B6-A47A-855D05EE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CEEF-9E29-4E50-9970-8D9C1F88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B8B55-4288-4926-A8F7-942F0CB2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20AC2-F26B-484A-999C-D0518580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ACA5E-FA34-43F3-8E7C-7A9D778C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0B7A0-CF08-4795-9EB8-418CE03F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16E75-9F69-4536-B501-79682E32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A84D-A1D3-4D7C-88A9-A152C3A3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0BB1-4706-4A25-BFC7-F4CF6A97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C92A-4168-4AF8-9597-FB74EA02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0D0F-3583-42CC-94E7-6D0951D4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3BF6-FFDF-4058-A48D-EA6BA33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AA7-98E1-4F64-8DA7-984AAD83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AED0-DD17-4164-AE79-02272E84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6DA1-8A3A-45E7-B594-27FA82C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BD7-ED6E-49ED-AC0E-6A32DA63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0360-0CE7-4F95-9E0B-096574C8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3CDF-3042-4275-AAEE-2728904C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EC27-AA4B-4B09-9F52-7BF1DB4F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9A6C9-EC2D-4BD3-82DE-48B0547E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4853-90CD-42BE-988B-AC7288D4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5CCAF-8A30-45E0-B21C-3D480BCE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DC20-4E60-4543-87A9-63483F5C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52B-3ACA-4028-A237-700DF922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78C0-E2D9-4E1E-AF01-6BC7F830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4B5C6-3BF9-4EF0-8DB8-9033D02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D27D-D0BC-4B56-BF15-3899CE7B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2AE7-47FA-418C-9B07-070E348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72A1-B308-428E-B744-908E6A5D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0B33-61DC-466D-96CF-779B9971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05A4-9696-4BB5-9C93-935C857E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6D971-4AA2-41CF-BC94-FAF198FD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6D12-A724-4D04-A2A1-9DB7EC8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6FAD5-26E0-4F82-ADC0-619FF91C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B13-2437-4872-84FC-7E69E7DE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9C55-B8F6-4EDB-9FE2-623E8208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1F81-992B-4103-9C4A-1C56B8DE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08D8-3B56-4E05-B1C9-9463900D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6D863-3D89-49A4-BC1A-97CA9DB1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B0AC-A985-4FCC-A4EC-03302D5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4CA1-C91B-4DBA-8727-09CE4027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2E09-18E5-40F1-8D6C-F0131DB1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EB99A-C4EA-41BE-AA43-26A0419C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7735-70A4-4938-ABAA-C5CD80E1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80DCD-FD80-4C24-9187-8797CD30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1B3-4B64-484E-9601-CB45DAFE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0CCC-1426-4AC5-91C2-376A6DBB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837CE-96A5-4FAB-B95F-A99FA5CD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B4C0E-BCC3-4C30-BEB6-93027E44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0CF70-9670-42CF-84B2-B44167A5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DF6DE-FD7D-47FA-83B8-100A672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A6D6-5134-401F-9808-9A0673D9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8529-7A40-4955-B481-501616A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5DF7-294B-412B-8A72-8FDE44B4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283E8-C66A-4326-8D6C-30CA221E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7F32-48F8-4131-8381-87252C2B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D36-0651-40C1-91EE-29851CFD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BB152-3583-4DCF-9C6E-6DDDFF04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7FA61-96D8-4B4C-9937-C73548DB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D0B2-7A63-4F9E-8B48-1778F5B4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4A786-51CA-4578-8D7B-E58A1DC5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7999-7C6D-491A-86CC-07662E7F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4368D-EB59-4AA0-BDA0-FFA2D283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EE54F-80E7-404F-BBF0-0CF49048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74A9D-BA24-4A4B-90E4-BEF0638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8EDF-B145-4860-BE4D-7796C8A1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209B-559B-46B0-81BC-A2E87C22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29A-3DC2-4900-81AC-EDC96E0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D35CD-759D-4A35-8D2F-55A853F1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9EFA3-C49A-48F3-AD8D-A2709D6C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C3BAC-098A-4A33-9FF4-7AAD7CC0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15C6C-B581-4C07-9D86-26B357BC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04259-EBC7-41B8-8ED3-58D39E3E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6C6A8-25F4-4299-A5E4-D40A05F7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B3BBB-826A-4A61-A18C-8D47452A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FF87E-AC2E-46DD-BCC4-F09EA24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1E49B-7334-4493-A207-C895AC19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60FF4-F414-45AE-B74E-0439AFEA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FD4-71C2-424C-A7F9-3D60D715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831ED-04E7-457C-8DAE-B59E88C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380E5-6422-4790-AAC0-4178A304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C8672-C498-414B-9EB0-51336D7B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5E40D-54DD-4669-AF10-2679457C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82BC5-E121-4F65-B74B-D215D8BE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EF82D-B7EE-4125-B43E-DCC45207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6BDC6-E3A0-4A59-8628-FA688D9B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6E9A6-617E-4544-B495-5903A385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28903-01B5-4418-922E-DE0BC8BA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E50F1-64A0-423D-8E17-47B1D1BC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A16-2A28-442A-9CD8-8C85C430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A2775-E67F-4ECB-9824-C6BFA456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CB829-DA7F-49C0-872D-D9055D43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0D0F2-3D98-442E-8743-9E946AC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A28B6-4079-444A-BFDA-FE484E24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6D90F-06BD-4A11-B78F-9DB7D19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E87B9-0F94-42F8-B9B6-986191BF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FAF3-7AC4-4AE3-985D-5CF08C09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E8AE8-C24D-4196-92C0-BE2F67E0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9BF73-D9D7-49B4-ACD3-8B5C41FD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7855B-3BE3-43B9-A79C-75EB7442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68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686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686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686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686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687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687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FC6B-6EE9-454B-8D84-FABCB2DFA1D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254C-3B97-4A1C-9DF2-DF8283BCEA5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C005-5818-4CDB-8C7C-9BE15040118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991F-9BD8-4139-8E4B-69F0AC465B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788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789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789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789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789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789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789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FFB9-3B8B-4BE7-93C0-731250A5D94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FE43-2B7D-4C11-A9F0-02012C8939D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C8D-55D2-41B7-84E2-D5C0A861E9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C393-A3AD-411F-ABF3-88B945EB8C0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978B-BA54-4189-AF9F-FA30E464503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4260-5464-403E-AEEB-304F20E2C1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5420-D5B7-42BD-9068-00107E92B37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1185-CFF5-403F-8F4E-48530A081E5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5"/>
          <p:cNvGrpSpPr/>
          <p:nvPr/>
        </p:nvGrpSpPr>
        <p:grpSpPr>
          <a:xfrm>
            <a:off x="1929600" y="4714920"/>
            <a:ext cx="890640" cy="757080"/>
            <a:chOff x="1929600" y="4714920"/>
            <a:chExt cx="890640" cy="757080"/>
          </a:xfrm>
        </p:grpSpPr>
        <p:sp>
          <p:nvSpPr>
            <p:cNvPr id="507" name="AutoShape 6"/>
            <p:cNvSpPr/>
            <p:nvPr/>
          </p:nvSpPr>
          <p:spPr>
            <a:xfrm rot="720000">
              <a:off x="1983960" y="4789440"/>
              <a:ext cx="781200" cy="60804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8" name="AutoShape 7"/>
            <p:cNvSpPr/>
            <p:nvPr/>
          </p:nvSpPr>
          <p:spPr>
            <a:xfrm rot="720000">
              <a:off x="2004480" y="4808520"/>
              <a:ext cx="737280" cy="5576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9b05"/>
                  </a:solidFill>
                  <a:uFillTx/>
                  <a:latin typeface="Arial"/>
                  <a:ea typeface="华文新魏"/>
                </a:rPr>
                <a:t>预习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09" name="Group 8"/>
          <p:cNvGrpSpPr/>
          <p:nvPr/>
        </p:nvGrpSpPr>
        <p:grpSpPr>
          <a:xfrm>
            <a:off x="3429000" y="4786920"/>
            <a:ext cx="813240" cy="692640"/>
            <a:chOff x="3429000" y="4786920"/>
            <a:chExt cx="813240" cy="692640"/>
          </a:xfrm>
        </p:grpSpPr>
        <p:sp>
          <p:nvSpPr>
            <p:cNvPr id="510" name="AutoShape 9"/>
            <p:cNvSpPr/>
            <p:nvPr/>
          </p:nvSpPr>
          <p:spPr>
            <a:xfrm rot="120000">
              <a:off x="3440160" y="4800240"/>
              <a:ext cx="790560" cy="66528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1" name="AutoShape 10"/>
            <p:cNvSpPr/>
            <p:nvPr/>
          </p:nvSpPr>
          <p:spPr>
            <a:xfrm rot="120000">
              <a:off x="3459600" y="4821840"/>
              <a:ext cx="746280" cy="6098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c000"/>
                  </a:solidFill>
                  <a:uFillTx/>
                  <a:latin typeface="Arial"/>
                  <a:ea typeface="华文新魏"/>
                </a:rPr>
                <a:t>详解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2" name="Group 11"/>
          <p:cNvGrpSpPr/>
          <p:nvPr/>
        </p:nvGrpSpPr>
        <p:grpSpPr>
          <a:xfrm>
            <a:off x="6637320" y="4624560"/>
            <a:ext cx="870120" cy="668160"/>
            <a:chOff x="6637320" y="4624560"/>
            <a:chExt cx="870120" cy="668160"/>
          </a:xfrm>
        </p:grpSpPr>
        <p:sp>
          <p:nvSpPr>
            <p:cNvPr id="513" name="AutoShape 12"/>
            <p:cNvSpPr/>
            <p:nvPr/>
          </p:nvSpPr>
          <p:spPr>
            <a:xfrm rot="21060000">
              <a:off x="6675480" y="4683240"/>
              <a:ext cx="793800" cy="550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4" name="AutoShape 13"/>
            <p:cNvSpPr/>
            <p:nvPr/>
          </p:nvSpPr>
          <p:spPr>
            <a:xfrm rot="21060000">
              <a:off x="6693840" y="4701600"/>
              <a:ext cx="749160" cy="50508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9b05"/>
                  </a:solidFill>
                  <a:uFillTx/>
                  <a:latin typeface="Arial"/>
                  <a:ea typeface="华文新魏"/>
                </a:rPr>
                <a:t>练习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5" name="Group 14"/>
          <p:cNvGrpSpPr/>
          <p:nvPr/>
        </p:nvGrpSpPr>
        <p:grpSpPr>
          <a:xfrm>
            <a:off x="4851000" y="4665960"/>
            <a:ext cx="953640" cy="840600"/>
            <a:chOff x="4851000" y="4665960"/>
            <a:chExt cx="953640" cy="840600"/>
          </a:xfrm>
        </p:grpSpPr>
        <p:sp>
          <p:nvSpPr>
            <p:cNvPr id="516" name="AutoShape 15"/>
            <p:cNvSpPr/>
            <p:nvPr/>
          </p:nvSpPr>
          <p:spPr>
            <a:xfrm rot="20220000">
              <a:off x="4932360" y="4797360"/>
              <a:ext cx="790560" cy="577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7" name="AutoShape 16"/>
            <p:cNvSpPr/>
            <p:nvPr/>
          </p:nvSpPr>
          <p:spPr>
            <a:xfrm rot="20220000">
              <a:off x="4950000" y="4817520"/>
              <a:ext cx="746280" cy="52992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9b05"/>
                  </a:solidFill>
                  <a:uFillTx/>
                  <a:latin typeface="Arial"/>
                  <a:ea typeface="华文新魏"/>
                </a:rPr>
                <a:t>拓展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8" name="WordArt 14"/>
          <p:cNvSpPr txBox="1"/>
          <p:nvPr/>
        </p:nvSpPr>
        <p:spPr>
          <a:xfrm>
            <a:off x="2627280" y="234936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uFillTx/>
                <a:latin typeface="宋体"/>
              </a:rPr>
              <a:t>玲玲的画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211640" y="1268280"/>
            <a:ext cx="18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78A5-6E7B-4837-A804-0B0499B240F3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灯泡"/>
          <p:cNvPicPr/>
          <p:nvPr/>
        </p:nvPicPr>
        <p:blipFill>
          <a:blip r:embed="rId1"/>
          <a:stretch/>
        </p:blipFill>
        <p:spPr>
          <a:xfrm>
            <a:off x="6300720" y="2852640"/>
            <a:ext cx="2349720" cy="232596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4"/>
          <p:cNvSpPr/>
          <p:nvPr/>
        </p:nvSpPr>
        <p:spPr>
          <a:xfrm>
            <a:off x="539640" y="2421000"/>
            <a:ext cx="4537080" cy="3168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539640" y="242100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得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意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说明玲玲认为这幅画画得非常好；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端详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这有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欣赏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意思，这幅画表明玲玲对这幅画充满了信心，她完全沉醉在自己的画中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497-FDAE-490A-9073-1669FC9BF977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t011cbf27465f3de3dc[1]"/>
          <p:cNvPicPr/>
          <p:nvPr/>
        </p:nvPicPr>
        <p:blipFill>
          <a:blip r:embed="rId1"/>
          <a:stretch/>
        </p:blipFill>
        <p:spPr>
          <a:xfrm>
            <a:off x="422280" y="1685880"/>
            <a:ext cx="8207280" cy="462276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4"/>
          <p:cNvSpPr/>
          <p:nvPr/>
        </p:nvSpPr>
        <p:spPr>
          <a:xfrm>
            <a:off x="4140360" y="1844640"/>
            <a:ext cx="3887640" cy="1295280"/>
          </a:xfrm>
          <a:prstGeom prst="wedgeRoundRectCallout">
            <a:avLst>
              <a:gd name="adj1" fmla="val -60861"/>
              <a:gd name="adj2" fmla="val 66055"/>
              <a:gd name="adj3" fmla="val 16667"/>
            </a:avLst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玲玲，时间不早了，快去睡吧！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爸爸</a:t>
            </a: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催她了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内容占位符 2"/>
          <p:cNvSpPr/>
          <p:nvPr/>
        </p:nvSpPr>
        <p:spPr>
          <a:xfrm>
            <a:off x="3708360" y="900000"/>
            <a:ext cx="22147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BAD-23ED-4B9D-8EFD-0ADE06529F5D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1619280" y="2637000"/>
            <a:ext cx="5904000" cy="26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ef2cc"/>
              </a:gs>
            </a:gsLst>
            <a:lin ang="18900000"/>
          </a:gradFill>
          <a:ln w="38160">
            <a:solidFill>
              <a:srgbClr val="969696"/>
            </a:solidFill>
            <a:round/>
          </a:ln>
          <a:effectLst>
            <a:outerShdw dist="91658" dir="338234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1619280" y="1484280"/>
            <a:ext cx="63356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个“又”字能说明什么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9" name="Picture 4" descr="思考"/>
          <p:cNvPicPr/>
          <p:nvPr/>
        </p:nvPicPr>
        <p:blipFill>
          <a:blip r:embed="rId1"/>
          <a:stretch/>
        </p:blipFill>
        <p:spPr>
          <a:xfrm>
            <a:off x="5621400" y="3429000"/>
            <a:ext cx="1800000" cy="1670040"/>
          </a:xfrm>
          <a:prstGeom prst="rect">
            <a:avLst/>
          </a:prstGeom>
          <a:ln w="0">
            <a:noFill/>
          </a:ln>
        </p:spPr>
      </p:pic>
      <p:sp>
        <p:nvSpPr>
          <p:cNvPr id="600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391D-BF71-4E8E-84B0-6D836C8A151F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灯泡"/>
          <p:cNvPicPr/>
          <p:nvPr/>
        </p:nvPicPr>
        <p:blipFill>
          <a:blip r:embed="rId1"/>
          <a:stretch/>
        </p:blipFill>
        <p:spPr>
          <a:xfrm>
            <a:off x="6156360" y="3716280"/>
            <a:ext cx="2392200" cy="236844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4"/>
          <p:cNvSpPr/>
          <p:nvPr/>
        </p:nvSpPr>
        <p:spPr>
          <a:xfrm>
            <a:off x="1042920" y="2276640"/>
            <a:ext cx="547380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2050920" y="2565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又”说明爸爸已经不止一次催玲玲快点睡觉了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138A-5F0D-4615-B69A-D49F5DC1740A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3" descr="5af363dbg8675ba96e5cd&amp;690"/>
          <p:cNvPicPr/>
          <p:nvPr/>
        </p:nvPicPr>
        <p:blipFill>
          <a:blip r:embed="rId1"/>
          <a:stretch/>
        </p:blipFill>
        <p:spPr>
          <a:xfrm>
            <a:off x="468360" y="1697040"/>
            <a:ext cx="8207280" cy="45403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4"/>
          <p:cNvSpPr/>
          <p:nvPr/>
        </p:nvSpPr>
        <p:spPr>
          <a:xfrm>
            <a:off x="3924360" y="1125360"/>
            <a:ext cx="4464000" cy="1151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956040" y="1785960"/>
            <a:ext cx="446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就在这时候，水彩笔吧的一下掉到了地上，把画弄脏了，玲玲伤心地哭了起来。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内容占位符 2"/>
          <p:cNvSpPr/>
          <p:nvPr/>
        </p:nvSpPr>
        <p:spPr>
          <a:xfrm>
            <a:off x="3214800" y="91116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EB80-FCBF-421D-9A1C-6531F3E92A02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30)1L923MQW]1U8TFX{AC}9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4681440"/>
          </a:xfrm>
          <a:prstGeom prst="rect">
            <a:avLst/>
          </a:prstGeom>
          <a:ln w="0">
            <a:noFill/>
          </a:ln>
        </p:spPr>
      </p:pic>
      <p:sp>
        <p:nvSpPr>
          <p:cNvPr id="616" name="内容占位符 2"/>
          <p:cNvSpPr/>
          <p:nvPr/>
        </p:nvSpPr>
        <p:spPr>
          <a:xfrm>
            <a:off x="3249720" y="91440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954A-2572-4626-B57E-B372BA524200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1476360" y="1844640"/>
            <a:ext cx="5904000" cy="1800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爸爸看了，高兴地说：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到了吧，孩子。好多事情并不像我们想象的那么糟糕。只要肯动脑筋，坏事也能变好事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547640" y="4076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爸爸通过这件事，告诉玲玲一个深刻的道理：只要肯动脑筋，坏事往往能变成好事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结构梳理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39640" y="33577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玲玲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1260360" y="2349360"/>
            <a:ext cx="358920" cy="2881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692360" y="20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端详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满意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692360" y="3500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不小心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弄脏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3635280" y="299736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3924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哇哇哭了起来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3851280" y="40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另画来不及了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1692360" y="4941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动脑筋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--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改画   得了一等奖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AutoShape 11"/>
          <p:cNvSpPr/>
          <p:nvPr/>
        </p:nvSpPr>
        <p:spPr>
          <a:xfrm>
            <a:off x="5580000" y="2276640"/>
            <a:ext cx="432000" cy="2952720"/>
          </a:xfrm>
          <a:custGeom>
            <a:avLst/>
            <a:gdLst>
              <a:gd name="textAreaLeft" fmla="*/ 0 w 432000"/>
              <a:gd name="textAreaRight" fmla="*/ 155880 w 4320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6372360" y="342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坏事变成好事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3"/>
          <p:cNvSpPr/>
          <p:nvPr/>
        </p:nvSpPr>
        <p:spPr>
          <a:xfrm>
            <a:off x="2378160" y="1984320"/>
            <a:ext cx="62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课文讲述的是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玲玲不小心弄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了自己准备参赛的画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在爸爸的启发下，她在弄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的地方画了一只小花狗，结果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在评奖会上意外得了一等奖。这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个故事告 诉我们：只要肯动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脑筋，坏事往往能变成事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AutoShape 4"/>
          <p:cNvSpPr/>
          <p:nvPr/>
        </p:nvSpPr>
        <p:spPr>
          <a:xfrm rot="1485600">
            <a:off x="1352520" y="1825560"/>
            <a:ext cx="6432480" cy="46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内容占位符 2"/>
          <p:cNvSpPr/>
          <p:nvPr/>
        </p:nvSpPr>
        <p:spPr>
          <a:xfrm>
            <a:off x="5364000" y="1054080"/>
            <a:ext cx="22147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主题概括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内容占位符 2"/>
          <p:cNvSpPr/>
          <p:nvPr/>
        </p:nvSpPr>
        <p:spPr>
          <a:xfrm>
            <a:off x="684360" y="127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写法点拨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AutoShape 3"/>
          <p:cNvSpPr/>
          <p:nvPr/>
        </p:nvSpPr>
        <p:spPr>
          <a:xfrm rot="10860000">
            <a:off x="2268000" y="2852280"/>
            <a:ext cx="5689800" cy="2881440"/>
          </a:xfrm>
          <a:prstGeom prst="wedgeRoundRectCallout">
            <a:avLst>
              <a:gd name="adj1" fmla="val 50958"/>
              <a:gd name="adj2" fmla="val 62342"/>
              <a:gd name="adj3" fmla="val 16667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570040" y="3013200"/>
            <a:ext cx="524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语言描写是塑造人物形象的重要手段。成功的语言描写能够鲜明地展示人物的性格，生动地表现人物的思想感情，深刻地反映人物的内心世界，使读者读来“如闻其声，如见其人”，获得深刻的印象。本文对爸爸和玲玲的语言描写生动、简洁 ，让我们感受到爸爸是一个沉稳、疼爱孩子的人，玲玲是一个认真、善于思考的人。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42BD-2BEB-40BD-B7A7-0DAB6E377C4A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1" name="Group 2"/>
          <p:cNvGrpSpPr/>
          <p:nvPr/>
        </p:nvGrpSpPr>
        <p:grpSpPr>
          <a:xfrm>
            <a:off x="1044720" y="1628640"/>
            <a:ext cx="2160360" cy="648000"/>
            <a:chOff x="1044720" y="1628640"/>
            <a:chExt cx="2160360" cy="648000"/>
          </a:xfrm>
        </p:grpSpPr>
        <p:sp>
          <p:nvSpPr>
            <p:cNvPr id="522" name="AutoShape 3"/>
            <p:cNvSpPr/>
            <p:nvPr/>
          </p:nvSpPr>
          <p:spPr>
            <a:xfrm>
              <a:off x="1044720" y="1628640"/>
              <a:ext cx="2160360" cy="648000"/>
            </a:xfrm>
            <a:custGeom>
              <a:avLst/>
              <a:gdLst>
                <a:gd name="textAreaLeft" fmla="*/ 540000 w 2160360"/>
                <a:gd name="textAreaRight" fmla="*/ 1620360 w 2160360"/>
                <a:gd name="textAreaTop" fmla="*/ 0 h 648000"/>
                <a:gd name="textAreaBottom" fmla="*/ 5670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Text Box 4"/>
            <p:cNvSpPr/>
            <p:nvPr/>
          </p:nvSpPr>
          <p:spPr>
            <a:xfrm>
              <a:off x="1547640" y="1701000"/>
              <a:ext cx="143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会写的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4" name="Text Box 5"/>
          <p:cNvSpPr/>
          <p:nvPr/>
        </p:nvSpPr>
        <p:spPr>
          <a:xfrm>
            <a:off x="2124000" y="2925720"/>
            <a:ext cx="505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1835280" y="1989000"/>
            <a:ext cx="4835520" cy="4318200"/>
            <a:chOff x="1835280" y="1989000"/>
            <a:chExt cx="4835520" cy="4318200"/>
          </a:xfrm>
        </p:grpSpPr>
        <p:sp>
          <p:nvSpPr>
            <p:cNvPr id="526" name="AutoShape 7"/>
            <p:cNvSpPr/>
            <p:nvPr/>
          </p:nvSpPr>
          <p:spPr>
            <a:xfrm>
              <a:off x="1835280" y="1989000"/>
              <a:ext cx="4680000" cy="4318200"/>
            </a:xfrm>
            <a:prstGeom prst="horizont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Text Box 8"/>
            <p:cNvSpPr/>
            <p:nvPr/>
          </p:nvSpPr>
          <p:spPr>
            <a:xfrm>
              <a:off x="1835280" y="2097360"/>
              <a:ext cx="48355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l</a:t>
              </a: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Arial"/>
                  <a:ea typeface="华文楷体"/>
                </a:rPr>
                <a:t>í</a:t>
              </a: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ng     fú     cu ī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玲      幅     催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zāo    b ā     z ā ng     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糟  叭   脏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00"/>
                  </a:solidFill>
                  <a:uFillTx/>
                  <a:latin typeface="华文楷体"/>
                  <a:ea typeface="华文楷体"/>
                </a:rPr>
                <a:t>kěn    lǎn     b ì ng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肯   懒    并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8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2"/>
          <p:cNvSpPr/>
          <p:nvPr/>
        </p:nvSpPr>
        <p:spPr>
          <a:xfrm>
            <a:off x="1116000" y="1916280"/>
            <a:ext cx="6912000" cy="403200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好多事情并不像我们想象的那么糟糕。只要肯动脑筋，坏事往往能变好事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br>
              <a:rPr sz="2800"/>
            </a:b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样的事我也遇到过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拓展提升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547640" y="2124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9900"/>
                </a:solidFill>
                <a:uFillTx/>
                <a:latin typeface="幼圆"/>
                <a:ea typeface="幼圆"/>
              </a:rPr>
              <a:t>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弧边矩形 476"/>
          <p:cNvSpPr/>
          <p:nvPr/>
        </p:nvSpPr>
        <p:spPr>
          <a:xfrm>
            <a:off x="1116000" y="1989000"/>
            <a:ext cx="6840720" cy="295272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心灵感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1405080" y="2133720"/>
            <a:ext cx="62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幼圆"/>
                <a:ea typeface="幼圆"/>
              </a:rPr>
              <a:t>遇事多动脑筋想办法，就能够巧妙地解决问题。如果放下置之不理，那么问题可能会变得更严重。文中的玲玲不小心把画弄脏了，但是她却巧妙地解决了。生活就是这样，只要善于思考，坏事往往就会变成好事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AF87-CEBF-4A7D-AE27-09C3BA330322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0" name="Group 2"/>
          <p:cNvGrpSpPr/>
          <p:nvPr/>
        </p:nvGrpSpPr>
        <p:grpSpPr>
          <a:xfrm>
            <a:off x="1042920" y="1628640"/>
            <a:ext cx="2160720" cy="648000"/>
            <a:chOff x="1042920" y="1628640"/>
            <a:chExt cx="2160720" cy="648000"/>
          </a:xfrm>
        </p:grpSpPr>
        <p:sp>
          <p:nvSpPr>
            <p:cNvPr id="531" name="AutoShape 3"/>
            <p:cNvSpPr/>
            <p:nvPr/>
          </p:nvSpPr>
          <p:spPr>
            <a:xfrm>
              <a:off x="1042920" y="1628640"/>
              <a:ext cx="2160720" cy="648000"/>
            </a:xfrm>
            <a:custGeom>
              <a:avLst/>
              <a:gdLst>
                <a:gd name="textAreaLeft" fmla="*/ 540000 w 2160720"/>
                <a:gd name="textAreaRight" fmla="*/ 1620720 w 2160720"/>
                <a:gd name="textAreaTop" fmla="*/ 0 h 648000"/>
                <a:gd name="textAreaBottom" fmla="*/ 5670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Text Box 4"/>
            <p:cNvSpPr/>
            <p:nvPr/>
          </p:nvSpPr>
          <p:spPr>
            <a:xfrm>
              <a:off x="1545840" y="1701360"/>
              <a:ext cx="14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 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读一读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3" name="Group 5"/>
          <p:cNvGrpSpPr/>
          <p:nvPr/>
        </p:nvGrpSpPr>
        <p:grpSpPr>
          <a:xfrm>
            <a:off x="1835280" y="1989000"/>
            <a:ext cx="4680000" cy="4318200"/>
            <a:chOff x="1835280" y="1989000"/>
            <a:chExt cx="4680000" cy="4318200"/>
          </a:xfrm>
        </p:grpSpPr>
        <p:sp>
          <p:nvSpPr>
            <p:cNvPr id="534" name="AutoShape 6"/>
            <p:cNvSpPr/>
            <p:nvPr/>
          </p:nvSpPr>
          <p:spPr>
            <a:xfrm>
              <a:off x="1835280" y="1989000"/>
              <a:ext cx="4680000" cy="4318200"/>
            </a:xfrm>
            <a:prstGeom prst="horizont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Text Box 7"/>
            <p:cNvSpPr/>
            <p:nvPr/>
          </p:nvSpPr>
          <p:spPr>
            <a:xfrm>
              <a:off x="2338560" y="2922120"/>
              <a:ext cx="41763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喇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叭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玲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珑     端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详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糟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糕 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催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促     弄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脏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肯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定 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懒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洋洋 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并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且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6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78E2-502C-457A-85B4-1F43E9C0C4FF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3132000" y="31417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AutoShape 3"/>
          <p:cNvSpPr/>
          <p:nvPr/>
        </p:nvSpPr>
        <p:spPr>
          <a:xfrm>
            <a:off x="1198440" y="2424240"/>
            <a:ext cx="6913800" cy="36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739880" y="2424240"/>
            <a:ext cx="5977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玲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家的小狗突然不见了，她的心情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糟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透了。为了寻找这只小狗，她伤透了脑筋，楼里楼外找遍了，好多人也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肯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帮她寻找，可是还没有找到。最后她印了一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幅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狗的相片，如果有人提供线索就给予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奖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励。最终找到了这只小狗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1" name="Group 5"/>
          <p:cNvGrpSpPr/>
          <p:nvPr/>
        </p:nvGrpSpPr>
        <p:grpSpPr>
          <a:xfrm>
            <a:off x="907920" y="1536840"/>
            <a:ext cx="2089440" cy="647640"/>
            <a:chOff x="907920" y="1536840"/>
            <a:chExt cx="2089440" cy="647640"/>
          </a:xfrm>
        </p:grpSpPr>
        <p:sp>
          <p:nvSpPr>
            <p:cNvPr id="542" name="AutoShape 6"/>
            <p:cNvSpPr/>
            <p:nvPr/>
          </p:nvSpPr>
          <p:spPr>
            <a:xfrm>
              <a:off x="907920" y="1536840"/>
              <a:ext cx="2089440" cy="647640"/>
            </a:xfrm>
            <a:prstGeom prst="flowChartAlternateProcess">
              <a:avLst/>
            </a:prstGeom>
            <a:solidFill>
              <a:srgbClr val="ffcc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Text Box 7"/>
            <p:cNvSpPr/>
            <p:nvPr/>
          </p:nvSpPr>
          <p:spPr>
            <a:xfrm>
              <a:off x="1138320" y="1575000"/>
              <a:ext cx="16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语境识字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4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F185-93F1-4CA8-B0D8-3C4B221704CD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900000" y="1197000"/>
            <a:ext cx="1729080" cy="647640"/>
            <a:chOff x="900000" y="1197000"/>
            <a:chExt cx="1729080" cy="647640"/>
          </a:xfrm>
        </p:grpSpPr>
        <p:sp>
          <p:nvSpPr>
            <p:cNvPr id="547" name="AutoShape 3"/>
            <p:cNvSpPr/>
            <p:nvPr/>
          </p:nvSpPr>
          <p:spPr>
            <a:xfrm>
              <a:off x="900000" y="1197000"/>
              <a:ext cx="1729080" cy="647640"/>
            </a:xfrm>
            <a:prstGeom prst="flowChartAlternateProcess">
              <a:avLst/>
            </a:prstGeom>
            <a:solidFill>
              <a:srgbClr val="ffcc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Text Box 4"/>
            <p:cNvSpPr/>
            <p:nvPr/>
          </p:nvSpPr>
          <p:spPr>
            <a:xfrm>
              <a:off x="1090800" y="1235160"/>
              <a:ext cx="135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Arial"/>
                  <a:ea typeface="华文隶书"/>
                </a:rPr>
                <a:t>多音字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9" name="AutoShape 5"/>
          <p:cNvSpPr/>
          <p:nvPr/>
        </p:nvSpPr>
        <p:spPr>
          <a:xfrm>
            <a:off x="1403280" y="2133720"/>
            <a:ext cx="6408720" cy="388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647720" y="2440080"/>
            <a:ext cx="58039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zāng 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弄脏  脏活）   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kān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看门 看守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脏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zàng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心脏  内脏）    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kàn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看见 看到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ān      (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参加   参观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)                   de(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跑得快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)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参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hēn 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(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参 党参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)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   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楷体"/>
              </a:rPr>
              <a:t>得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é(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得到  得意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)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ēn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参差不齐 ）          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ěi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得亏）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2195640" y="2924280"/>
            <a:ext cx="75960" cy="115416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154160"/>
              <a:gd name="textAreaBottom" fmla="*/ 112248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6"/>
                  <a:pt x="10800" y="1912"/>
                </a:cubicBezTo>
                <a:lnTo>
                  <a:pt x="10800" y="8888"/>
                </a:lnTo>
                <a:cubicBezTo>
                  <a:pt x="10800" y="9844"/>
                  <a:pt x="5400" y="10800"/>
                  <a:pt x="0" y="10800"/>
                </a:cubicBezTo>
                <a:cubicBezTo>
                  <a:pt x="5400" y="10800"/>
                  <a:pt x="10800" y="11756"/>
                  <a:pt x="10800" y="12712"/>
                </a:cubicBezTo>
                <a:lnTo>
                  <a:pt x="10800" y="19688"/>
                </a:lnTo>
                <a:cubicBezTo>
                  <a:pt x="10800" y="20644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AutoShape 8"/>
          <p:cNvSpPr/>
          <p:nvPr/>
        </p:nvSpPr>
        <p:spPr>
          <a:xfrm>
            <a:off x="5219640" y="2925720"/>
            <a:ext cx="76320" cy="11527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152720"/>
              <a:gd name="textAreaBottom" fmla="*/ 11210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6"/>
                  <a:pt x="10800" y="1912"/>
                </a:cubicBezTo>
                <a:lnTo>
                  <a:pt x="10800" y="8888"/>
                </a:lnTo>
                <a:cubicBezTo>
                  <a:pt x="10800" y="9844"/>
                  <a:pt x="5400" y="10800"/>
                  <a:pt x="0" y="10800"/>
                </a:cubicBezTo>
                <a:cubicBezTo>
                  <a:pt x="5400" y="10800"/>
                  <a:pt x="10800" y="11756"/>
                  <a:pt x="10800" y="12712"/>
                </a:cubicBezTo>
                <a:lnTo>
                  <a:pt x="10800" y="19688"/>
                </a:lnTo>
                <a:cubicBezTo>
                  <a:pt x="10800" y="20644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AutoShape 9"/>
          <p:cNvSpPr/>
          <p:nvPr/>
        </p:nvSpPr>
        <p:spPr>
          <a:xfrm>
            <a:off x="2195640" y="4365720"/>
            <a:ext cx="72720" cy="1368360"/>
          </a:xfrm>
          <a:custGeom>
            <a:avLst/>
            <a:gdLst>
              <a:gd name="textAreaLeft" fmla="*/ 46440 w 72720"/>
              <a:gd name="textAreaRight" fmla="*/ 73080 w 72720"/>
              <a:gd name="textAreaTop" fmla="*/ 41040 h 1368360"/>
              <a:gd name="textAreaBottom" fmla="*/ 13273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2"/>
                  <a:pt x="10800" y="2083"/>
                </a:cubicBezTo>
                <a:lnTo>
                  <a:pt x="10800" y="8717"/>
                </a:lnTo>
                <a:cubicBezTo>
                  <a:pt x="10800" y="9759"/>
                  <a:pt x="5400" y="10800"/>
                  <a:pt x="0" y="10800"/>
                </a:cubicBezTo>
                <a:cubicBezTo>
                  <a:pt x="5400" y="10800"/>
                  <a:pt x="10800" y="11842"/>
                  <a:pt x="10800" y="12883"/>
                </a:cubicBezTo>
                <a:lnTo>
                  <a:pt x="10800" y="19517"/>
                </a:lnTo>
                <a:cubicBezTo>
                  <a:pt x="10800" y="20559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5219640" y="4508640"/>
            <a:ext cx="76320" cy="122544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内容占位符 2"/>
          <p:cNvSpPr/>
          <p:nvPr/>
        </p:nvSpPr>
        <p:spPr>
          <a:xfrm>
            <a:off x="3205080" y="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BAF4-D8A9-4234-A78E-AF34F4C34372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7" name="Group 2"/>
          <p:cNvGrpSpPr/>
          <p:nvPr/>
        </p:nvGrpSpPr>
        <p:grpSpPr>
          <a:xfrm>
            <a:off x="826920" y="1916280"/>
            <a:ext cx="3457800" cy="647640"/>
            <a:chOff x="826920" y="1916280"/>
            <a:chExt cx="3457800" cy="647640"/>
          </a:xfrm>
        </p:grpSpPr>
        <p:sp>
          <p:nvSpPr>
            <p:cNvPr id="558" name="AutoShape 3"/>
            <p:cNvSpPr/>
            <p:nvPr/>
          </p:nvSpPr>
          <p:spPr>
            <a:xfrm>
              <a:off x="826920" y="1916280"/>
              <a:ext cx="3457800" cy="647640"/>
            </a:xfrm>
            <a:custGeom>
              <a:avLst/>
              <a:gdLst>
                <a:gd name="textAreaLeft" fmla="*/ 864360 w 3457800"/>
                <a:gd name="textAreaRight" fmla="*/ 2593440 w 3457800"/>
                <a:gd name="textAreaTop" fmla="*/ 0 h 647640"/>
                <a:gd name="textAreaBottom" fmla="*/ 567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Text Box 4"/>
            <p:cNvSpPr/>
            <p:nvPr/>
          </p:nvSpPr>
          <p:spPr>
            <a:xfrm>
              <a:off x="2070720" y="1974600"/>
              <a:ext cx="124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近义词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0" name="AutoShape 5"/>
          <p:cNvSpPr/>
          <p:nvPr/>
        </p:nvSpPr>
        <p:spPr>
          <a:xfrm>
            <a:off x="971640" y="2924280"/>
            <a:ext cx="7056360" cy="316872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556000" y="2997360"/>
            <a:ext cx="446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满意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满足   收拾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整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仔细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细心   往往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常常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糟 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—  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80E8-5133-482B-BF46-2719D6087792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826920" y="1916280"/>
            <a:ext cx="3457800" cy="647640"/>
            <a:chOff x="826920" y="1916280"/>
            <a:chExt cx="3457800" cy="647640"/>
          </a:xfrm>
        </p:grpSpPr>
        <p:sp>
          <p:nvSpPr>
            <p:cNvPr id="565" name="AutoShape 3"/>
            <p:cNvSpPr/>
            <p:nvPr/>
          </p:nvSpPr>
          <p:spPr>
            <a:xfrm>
              <a:off x="826920" y="1916280"/>
              <a:ext cx="3457800" cy="647640"/>
            </a:xfrm>
            <a:custGeom>
              <a:avLst/>
              <a:gdLst>
                <a:gd name="textAreaLeft" fmla="*/ 864360 w 3457800"/>
                <a:gd name="textAreaRight" fmla="*/ 2593440 w 3457800"/>
                <a:gd name="textAreaTop" fmla="*/ 0 h 647640"/>
                <a:gd name="textAreaBottom" fmla="*/ 567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Text Box 4"/>
            <p:cNvSpPr/>
            <p:nvPr/>
          </p:nvSpPr>
          <p:spPr>
            <a:xfrm>
              <a:off x="2070720" y="1974600"/>
              <a:ext cx="124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反义词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7" name="Group 5"/>
          <p:cNvGrpSpPr/>
          <p:nvPr/>
        </p:nvGrpSpPr>
        <p:grpSpPr>
          <a:xfrm>
            <a:off x="1042920" y="2781360"/>
            <a:ext cx="7056360" cy="2592360"/>
            <a:chOff x="1042920" y="2781360"/>
            <a:chExt cx="7056360" cy="2592360"/>
          </a:xfrm>
        </p:grpSpPr>
        <p:sp>
          <p:nvSpPr>
            <p:cNvPr id="568" name="AutoShape 6"/>
            <p:cNvSpPr/>
            <p:nvPr/>
          </p:nvSpPr>
          <p:spPr>
            <a:xfrm>
              <a:off x="1042920" y="2781360"/>
              <a:ext cx="7056360" cy="2592360"/>
            </a:xfrm>
            <a:prstGeom prst="vertic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Text Box 7"/>
            <p:cNvSpPr/>
            <p:nvPr/>
          </p:nvSpPr>
          <p:spPr>
            <a:xfrm>
              <a:off x="2611440" y="2836800"/>
              <a:ext cx="4465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脏  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— 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净   懒 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— 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勤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仔细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—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马虎   坏事</a:t>
              </a:r>
              <a:r>
                <a:rPr b="0" i="1" lang="en-US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—</a:t>
              </a:r>
              <a:r>
                <a:rPr b="0" i="1" lang="zh-CN" sz="2800" spc="-1" strike="noStrike" u="sng">
                  <a:solidFill>
                    <a:srgbClr val="ff0000"/>
                  </a:solidFill>
                  <a:uFillTx/>
                  <a:latin typeface="华文隶书"/>
                  <a:ea typeface="华文隶书"/>
                </a:rPr>
                <a:t>好事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0" name="内容占位符 2"/>
          <p:cNvSpPr/>
          <p:nvPr/>
        </p:nvSpPr>
        <p:spPr>
          <a:xfrm>
            <a:off x="3205080" y="1000080"/>
            <a:ext cx="2224080" cy="70164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字词乐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AutoShape 2"/>
          <p:cNvSpPr/>
          <p:nvPr/>
        </p:nvSpPr>
        <p:spPr>
          <a:xfrm>
            <a:off x="900000" y="3213000"/>
            <a:ext cx="7344000" cy="25210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前预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044720" y="3213000"/>
            <a:ext cx="706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一、 初读课文，了解课文大意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二、 正确、流利、有感情地朗读课文，感悟积累对自己有启发的句子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三、懂得生活中只要肯动脑筋，坏事     也能变成好事的道理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2411280" y="1917720"/>
            <a:ext cx="5329440" cy="936720"/>
          </a:xfrm>
          <a:prstGeom prst="wedgeRoundRectCallout">
            <a:avLst>
              <a:gd name="adj1" fmla="val -59620"/>
              <a:gd name="adj2" fmla="val -4439"/>
              <a:gd name="adj3" fmla="val 16667"/>
            </a:avLst>
          </a:prstGeom>
          <a:solidFill>
            <a:srgbClr val="99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2682720" y="2068560"/>
            <a:ext cx="46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隶书"/>
              </a:rPr>
              <a:t>同学们，在学习课文之前，我们需要自己做到以下三点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BBA8-6A2C-49AC-A638-0F4D3FB891B6}" type="datetime">
              <a:rPr b="0" i="1" lang="en-US" sz="1200" spc="-1" strike="noStrike" u="sng">
                <a:solidFill>
                  <a:srgbClr val="898989"/>
                </a:solidFill>
                <a:uFillTx/>
                <a:latin typeface="Arial"/>
                <a:ea typeface="宋体"/>
              </a:rPr>
              <a:t>07/30/26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课文解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1116000" y="2060640"/>
            <a:ext cx="6553080" cy="1101600"/>
            <a:chOff x="1116000" y="2060640"/>
            <a:chExt cx="6553080" cy="1101600"/>
          </a:xfrm>
        </p:grpSpPr>
        <p:sp>
          <p:nvSpPr>
            <p:cNvPr id="579" name="AutoShape 4"/>
            <p:cNvSpPr/>
            <p:nvPr/>
          </p:nvSpPr>
          <p:spPr>
            <a:xfrm>
              <a:off x="1116000" y="2060640"/>
              <a:ext cx="6553080" cy="110160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Text Box 5"/>
            <p:cNvSpPr/>
            <p:nvPr/>
          </p:nvSpPr>
          <p:spPr>
            <a:xfrm>
              <a:off x="1533600" y="2153160"/>
              <a:ext cx="5551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玲玲得</a:t>
              </a: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意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地</a:t>
              </a:r>
              <a:r>
                <a:rPr b="0" i="1" lang="zh-CN" sz="24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端详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着自己画的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《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我家的一角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》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这幅画明天就要参加评奖了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81" name="Group 6"/>
          <p:cNvGrpSpPr/>
          <p:nvPr/>
        </p:nvGrpSpPr>
        <p:grpSpPr>
          <a:xfrm>
            <a:off x="2268360" y="3875040"/>
            <a:ext cx="5256360" cy="1569960"/>
            <a:chOff x="2268360" y="3875040"/>
            <a:chExt cx="5256360" cy="1569960"/>
          </a:xfrm>
        </p:grpSpPr>
        <p:sp>
          <p:nvSpPr>
            <p:cNvPr id="582" name="AutoShape 7"/>
            <p:cNvSpPr/>
            <p:nvPr/>
          </p:nvSpPr>
          <p:spPr>
            <a:xfrm>
              <a:off x="2268360" y="4005720"/>
              <a:ext cx="5256360" cy="1439280"/>
            </a:xfrm>
            <a:prstGeom prst="flowChartManualOperation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Text Box 8"/>
            <p:cNvSpPr/>
            <p:nvPr/>
          </p:nvSpPr>
          <p:spPr>
            <a:xfrm>
              <a:off x="3081600" y="3875040"/>
              <a:ext cx="385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从“得意”和“端详”这两个词可以看出什么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84" name="Picture 9" descr="思考"/>
          <p:cNvPicPr/>
          <p:nvPr/>
        </p:nvPicPr>
        <p:blipFill>
          <a:blip r:embed="rId1"/>
          <a:stretch/>
        </p:blipFill>
        <p:spPr>
          <a:xfrm>
            <a:off x="252360" y="3860640"/>
            <a:ext cx="180036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02:56:56Z</dcterms:created>
  <dc:creator>Administrator</dc:creator>
  <dc:description/>
  <dc:language>en-US</dc:language>
  <cp:lastModifiedBy>万润仪器贸易公司</cp:lastModifiedBy>
  <dcterms:modified xsi:type="dcterms:W3CDTF">2020-08-19T01:31:58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